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F6F-8AFA-48A7-B9C0-888F38B3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E1C-BA3F-4F3A-9A7B-59CDDEA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A3A-126D-46C2-848C-70DD2A9B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184-68BE-4FFD-9F91-72E4E100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64F-F658-4874-8809-0E3B4DA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07D-E52F-40F4-B305-83A87736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969-46E8-46DB-996E-F66AFEE2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3C6-8074-48A9-9821-9C4FC0FC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85A-0118-4F78-8F7B-1D068717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389-3D11-47C3-8192-BCD7910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8B5-9BE6-47EA-92A7-8224BC9F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78B-89E2-482F-8325-B22B44A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DA9-CE77-4BB7-A6D0-A27E72DE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nniethepoohbear.net/showpicture.php?picname=/albumgroup1/im/group_jpg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oism (pronounced Dowism) is a common religion in Asia.  Like Buddhism, there are not gods.  Instead, they follow the teachings of a man named Lao Tz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aracter from the 100 Acre Woods is a symbol of Taoist philosop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each has a personality or character traits that demonstrates one of the teachings of Tao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talks about keeping things natural, uncomplicated, and simple... Just like our favorit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says, “Don’t think or plan or do, just B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hile Eeyore frets 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Piglet hesit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Rabbit calcu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Owl pontific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Pooh just is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Pooh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over the descriptions of each Pooh character.  Think about which personality traits you have in common with each charac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2133720"/>
            <a:ext cx="61722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kind of clueless, maybe a bit of an air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almost always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wanders through life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no goals, but no dis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looking for a simple pl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, balloons and a full belly are the key to happ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rumdisney23_gif"/>
          <p:cNvPicPr/>
          <p:nvPr/>
        </p:nvPicPr>
        <p:blipFill>
          <a:blip r:embed="rId1"/>
          <a:stretch/>
        </p:blipFill>
        <p:spPr>
          <a:xfrm>
            <a:off x="3733920" y="304920"/>
            <a:ext cx="1339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i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a loyal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never the center of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thinks of other people’s feeling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needs a lot of pats o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ants to please and get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prefers one good friend to a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o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nassedisney8_gif"/>
          <p:cNvPicPr/>
          <p:nvPr/>
        </p:nvPicPr>
        <p:blipFill>
          <a:blip r:embed="rId1"/>
          <a:stretch/>
        </p:blipFill>
        <p:spPr>
          <a:xfrm>
            <a:off x="4114800" y="304920"/>
            <a:ext cx="1100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1752120"/>
            <a:ext cx="472428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Tig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nergetic, physical, and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impulsive (doesn’t think before he acts), and is likely to get into tro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loud and never sits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motional and often flies into a rage or gets upset, but gets over it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likes noise and music and sports… the louder and more physical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igger"/>
          <p:cNvPicPr/>
          <p:nvPr/>
        </p:nvPicPr>
        <p:blipFill>
          <a:blip r:embed="rId1"/>
          <a:stretch/>
        </p:blipFill>
        <p:spPr>
          <a:xfrm>
            <a:off x="4114800" y="152280"/>
            <a:ext cx="998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1981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Eey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slightly cynical, expecting bad things will happen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focuses on problems and compl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loses things a lot and is forge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pessimistic, and worries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often shy, tired, or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ite of this, Eeyore is lovable and loves his friends and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age72_gif"/>
          <p:cNvPicPr/>
          <p:nvPr/>
        </p:nvPicPr>
        <p:blipFill>
          <a:blip r:embed="rId1"/>
          <a:stretch/>
        </p:blipFill>
        <p:spPr>
          <a:xfrm>
            <a:off x="3809880" y="609480"/>
            <a:ext cx="14479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752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Rab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likes to be in charge, is detail-oriented, clever, and good at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can be counted on in an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very organized and neat, and likes everything in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uncomfortable around mess and chaos, and likes to follow a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prettdisney4_gif"/>
          <p:cNvPicPr/>
          <p:nvPr/>
        </p:nvPicPr>
        <p:blipFill>
          <a:blip r:embed="rId1"/>
          <a:stretch/>
        </p:blipFill>
        <p:spPr>
          <a:xfrm>
            <a:off x="4019400" y="228600"/>
            <a:ext cx="90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1447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cademic (scholarly and well-educa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 problem solver, is thoughtful, and uses common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reads a lot, and knows a lot about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loves to show off how smart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very wise, and would be a good scientist or prof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ugladisney3_gif"/>
          <p:cNvPicPr/>
          <p:nvPr/>
        </p:nvPicPr>
        <p:blipFill>
          <a:blip r:embed="rId1"/>
          <a:stretch/>
        </p:blipFill>
        <p:spPr>
          <a:xfrm>
            <a:off x="3809880" y="304920"/>
            <a:ext cx="92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6761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Ka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sweet and nurt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oves small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makes sure everyone is safe and f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gentle and loving and comf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ikes a cozy home and quiet moments, and makes a great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kengudisney2_gif"/>
          <p:cNvPicPr/>
          <p:nvPr/>
        </p:nvPicPr>
        <p:blipFill>
          <a:blip r:embed="rId1"/>
          <a:stretch/>
        </p:blipFill>
        <p:spPr>
          <a:xfrm>
            <a:off x="3962520" y="228600"/>
            <a:ext cx="10126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Christopher Ro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Robin is imaginative.  He is very clever and artistic, and has goo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make a good actor or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s a good story.  He loves to be surrounded b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daydreamer and loves to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12_gif"/>
          <p:cNvPicPr/>
          <p:nvPr/>
        </p:nvPicPr>
        <p:blipFill>
          <a:blip r:embed="rId1"/>
          <a:stretch/>
        </p:blipFill>
        <p:spPr>
          <a:xfrm>
            <a:off x="4191120" y="0"/>
            <a:ext cx="558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Tao (pronounced Dow) me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” (to happin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nt to K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oing to be explaining to me who you are… in terms of Tao and Poo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be one character or a combination of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sheet of white paper, explain who you are in terms of Tao and Pooh. Explain yourself thoroughly! Illust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secrets to being hap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COMPASSION (care f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HUMILITY (being down-to-ea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ODERATION (enjoy everything in         small amounts, but don’t go crazy!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O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Happiness is finding balance… in yourself and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Finding joy and laughter in everyday moments is th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Let go of stress and worry and forget about things that make you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sounds familiar, it’s because LAO’s ideas are the same as another great philosopher you know:  Winnie the Poo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argue that the Pooh stories are actually stories to help people understand Taoism and teach life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quotes from Pooh that match up perfectly with the teachings of Lao, who probably lived in China about 6 years before the birth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ao"/>
          <p:cNvPicPr/>
          <p:nvPr/>
        </p:nvPicPr>
        <p:blipFill>
          <a:blip r:embed="rId2"/>
          <a:stretch/>
        </p:blipFill>
        <p:spPr>
          <a:xfrm>
            <a:off x="5715000" y="40384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clever mind is not a hear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Rabbit's clever," said Pooh thoughtfull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. "Rabbit's clever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And he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, "Rabbit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was a long sil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I suppose," said Pooh, "that that's why he never understands anything."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j0236214"/>
          <p:cNvPicPr/>
          <p:nvPr/>
        </p:nvPicPr>
        <p:blipFill>
          <a:blip r:embed="rId1"/>
          <a:stretch/>
        </p:blipFill>
        <p:spPr>
          <a:xfrm>
            <a:off x="7010280" y="1274760"/>
            <a:ext cx="1524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is more to knowing than just being correc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Lot's of people talk to animals," said Pooh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Maybe, but..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Not very man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ough," he said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That's the problem," he add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group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752480"/>
            <a:ext cx="1562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wise know their limitations; the foolish do no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 and Tigger were walking along the forest one morning, and Tigger was talking about all the things that Tiggers can do.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 can swim," said Roo. "I fell into the river, and I swimmed. Can Tiggers swim?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Of course they can. Tiggers can do everything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an they climb trees better than Pooh?" asked Roo, stopping under the tallest Pine Tree, and looking up at 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limbing trees is what they do best," said Tigger. "Much better than Poohs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next thing they knew, they were stuck in the tallest pine tre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08:04Z</dcterms:created>
  <dc:creator>Daniel Boone Area School District</dc:creator>
  <dc:description/>
  <dc:language>en-US</dc:language>
  <cp:lastModifiedBy>Tech Support</cp:lastModifiedBy>
  <dcterms:modified xsi:type="dcterms:W3CDTF">2013-11-05T14:09:07Z</dcterms:modified>
  <cp:revision>11</cp:revision>
  <dc:subject/>
  <dc:title>The Tao of Poo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